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E75FC-E7B5-4650-A70C-23C21325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8DC96-420A-44A9-98D5-C814C9631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F1FB1-FD37-4945-909B-38C92D5B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2FA83-6659-485F-A60D-3E975B42C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555DF-5CE7-4850-8576-03417DEAC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1660-79C5-4170-80E4-4F2EA6C8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B1ED3-779A-4D84-9DF7-27DCF94AE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4FBE-17B6-4F4A-8F44-DCF7DD17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C6383-28BE-4F08-80D3-F7576B753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0764-F544-483D-9AC4-2F82C1C10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F02E-5873-4FCE-9DAE-BF553370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064F-84BD-4AF9-8C0B-40786A5A0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0E30-CBAE-40C6-8E0A-AC701227152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43" name="WordArt 4"/>
          <p:cNvSpPr txBox="1"/>
          <p:nvPr/>
        </p:nvSpPr>
        <p:spPr>
          <a:xfrm>
            <a:off x="0" y="404640"/>
            <a:ext cx="7056360" cy="1729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t>
            </a:r>
            <a:r>
              <a:rPr b="0" lang="en-US" sz="1800" spc="1" strike="noStrike">
                <a:ln w="9360">
                  <a:solidFill>
                    <a:srgbClr val="000000"/>
                  </a:solidFill>
                  <a:miter/>
                </a:ln>
                <a:gradFill rotWithShape="0">
                  <a:gsLst>
                    <a:gs pos="0">
                      <a:srgbClr val="ffe701"/>
                    </a:gs>
                    <a:gs pos="100000">
                      <a:srgbClr val="fe3e02"/>
                    </a:gs>
                  </a:gsLst>
                  <a:lin ang="5400000"/>
                </a:gradFill>
                <a:latin typeface="Impact"/>
              </a:rPr>
              <a:t>Всякая всячин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WordArt 5"/>
          <p:cNvSpPr txBox="1"/>
          <p:nvPr/>
        </p:nvSpPr>
        <p:spPr>
          <a:xfrm>
            <a:off x="468360" y="2908440"/>
            <a:ext cx="7991280" cy="19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Наречие"(своя игра)</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333399"/>
                </a:solidFill>
                <a:uFillTx/>
                <a:latin typeface="Arial"/>
              </a:rPr>
              <a:t>Е или И?</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и)где, н(е)откуда, н(и)сколько, н(и)откуда, н(и)где, н(и)чуть, н(е)сколько, н(и)куда,н(и)мало, н(е)куда. (Ударение в словах поставлено.)</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333399"/>
                </a:solidFill>
                <a:uFillTx/>
                <a:latin typeface="Arial"/>
              </a:rPr>
              <a:t>Выписать орфограммы и объясняет написание слов</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аше время никого не удивляет платье в обтяжку или рубашка на(распашку). А в античные времена такие наряды пришлись бы не (по)вкусу, ведь в древности люди предпочитали одежду (по)проще и (по)просторнее.</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ижняя одежда римлянина (туника) сейчас пришлась бы (в)пору обладателям разных размеров (в)силу уникальности покроя. Хотите одеться (по)модному? Возьмите два полотнища, сшейте их (по)бокам, предусмотрительно оставив отверстие для головы. У простых людей туника (за)частую имела только левый рукав. В этом случае полотнища (с)легка прихватывались застежкой (на)плече. (Не)редко тунику украшали вышивкой или каймой. (По)верх туники мужчины надевали тог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333399"/>
                </a:solidFill>
                <a:uFillTx/>
                <a:latin typeface="Arial"/>
              </a:rPr>
              <a:t>Раскройте скоб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68360" y="836640"/>
            <a:ext cx="8229600" cy="51451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деть (с)верху, прикрепить (с)боку, застегнуть (с)лева, вывернуть (на)изнанку, подколоть (с)права, купить (по)дешевке, подложить (с)изнанки, сложить (в)двое, отрезать (по)короче, расположить (по)середине, прострочить (с)верху, украсить (по)низу, пришить крепко (на)крепко, выглядеть (по)домашнему, завязать (по)английски, вышить крест (на)крес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0"/>
            <a:ext cx="8532720" cy="16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333399"/>
                </a:solidFill>
                <a:uFillTx/>
                <a:latin typeface="Arial"/>
              </a:rPr>
              <a:t>Представьте, что вам нужно описать костюм. Подберите глаголы к данным наречиям так, чтобы получившиеся словосочетания можно было бы использовать в вашем тексте. Раскройте скобки.</a:t>
            </a:r>
            <a:endParaRPr b="0" lang="en-US" sz="2400" spc="-1" strike="noStrike">
              <a:solidFill>
                <a:srgbClr val="000000"/>
              </a:solidFill>
              <a:latin typeface="Arial"/>
            </a:endParaRPr>
          </a:p>
        </p:txBody>
      </p:sp>
      <p:sp>
        <p:nvSpPr>
          <p:cNvPr id="67" name="PlaceHolder 2"/>
          <p:cNvSpPr>
            <a:spLocks noGrp="1"/>
          </p:cNvSpPr>
          <p:nvPr>
            <p:ph/>
          </p:nvPr>
        </p:nvSpPr>
        <p:spPr>
          <a:xfrm>
            <a:off x="324000" y="1628640"/>
            <a:ext cx="8229600" cy="522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верху), (с)боку, (с)лева, (на)изнанку, (с)права, (по)дешевке, (с)изнанки, (в)двое, (по)короче, (по)середине, (по)низу, (по)домашнему, (по)английски, крест (на)крест.</a:t>
            </a:r>
            <a:endParaRPr b="0" lang="en-US" sz="32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333399"/>
                </a:solidFill>
                <a:uFillTx/>
                <a:latin typeface="Arial"/>
              </a:rPr>
              <a:t>Для справок:</a:t>
            </a:r>
            <a:r>
              <a:rPr b="0" lang="ru-RU" sz="2800" spc="-1" strike="noStrike">
                <a:solidFill>
                  <a:srgbClr val="000000"/>
                </a:solidFill>
                <a:latin typeface="Arial"/>
              </a:rPr>
              <a:t> </a:t>
            </a:r>
            <a:r>
              <a:rPr b="1" lang="ru-RU" sz="2800" spc="-1" strike="noStrike">
                <a:solidFill>
                  <a:srgbClr val="000000"/>
                </a:solidFill>
                <a:latin typeface="Arial"/>
              </a:rPr>
              <a:t>вышить, прикрепить, вывернуть, надеть, украсить, сложить, отрезать, подколоть, застегнуть, купить, подложить, расположить, прострочить, пришить, выглядеть, завяз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333399"/>
                </a:solidFill>
                <a:uFillTx/>
                <a:latin typeface="Arial"/>
              </a:rPr>
              <a:t>ОТВЕТИТЬ НА ВОПРОСЫ.</a:t>
            </a:r>
            <a:endParaRPr b="0" lang="en-US" sz="4400" spc="-1" strike="noStrike">
              <a:solidFill>
                <a:srgbClr val="000000"/>
              </a:solidFill>
              <a:latin typeface="Arial"/>
            </a:endParaRPr>
          </a:p>
        </p:txBody>
      </p:sp>
      <p:sp>
        <p:nvSpPr>
          <p:cNvPr id="4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такое наречие?</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общего у наречия с другими частями реч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ими способами образуются наречия? Приведите примеры.</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образуется превосходная степень нареч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образуется сравнительная степень нареч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какие смысловые группы делятся нареч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скажите, когда в наречиях после шипящих пишется 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огда в приставках отрицательных наречий пишется И , когда 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огда после шипящих на конце наречий пишется О, когда 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огда в наречиях пишется одна буква Н, а когда две буквы Н?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Расскажите о правописании НЕ с наречиями на О, 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скажите о правописании О, А на конце наречи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скажите, какие наречия пишутся через дефи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u="sng">
                <a:solidFill>
                  <a:srgbClr val="333399"/>
                </a:solidFill>
                <a:uFillTx/>
                <a:latin typeface="Arial"/>
              </a:rPr>
              <a:t>О, Е или Ё?</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ычаж…к, камеш…к, ж..лудь, отсеч…т, свеж…, свеч…й, ш…рох, ч…рный, чуж…й, обнаж…нный, индюш…нок, суч…к, вовлеч…т, череш…нка, горя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333399"/>
                </a:solidFill>
                <a:uFillTx/>
                <a:latin typeface="Arial"/>
              </a:rPr>
              <a:t>Вставьте, где нужно Ь.</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вуч…, сотни тысяч…, мятеж…, плющ…, хорош…, рассееш…ся, назнач…те, дрож…, достич…, мело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333399"/>
                </a:solidFill>
                <a:uFillTx/>
                <a:latin typeface="Arial"/>
              </a:rPr>
              <a:t>Составьте предложение по схеме:</a:t>
            </a:r>
            <a:endParaRPr b="0" lang="en-US" sz="4000" spc="-1" strike="noStrike">
              <a:solidFill>
                <a:srgbClr val="000000"/>
              </a:solidFill>
              <a:latin typeface="Arial"/>
            </a:endParaRPr>
          </a:p>
        </p:txBody>
      </p:sp>
      <p:pic>
        <p:nvPicPr>
          <p:cNvPr id="53" name="Picture 4" descr="img2"/>
          <p:cNvPicPr/>
          <p:nvPr/>
        </p:nvPicPr>
        <p:blipFill>
          <a:blip r:embed="rId2"/>
          <a:stretch/>
        </p:blipFill>
        <p:spPr>
          <a:xfrm>
            <a:off x="1258920" y="2560680"/>
            <a:ext cx="7489800" cy="108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333399"/>
                </a:solidFill>
                <a:uFillTx/>
                <a:latin typeface="Arial"/>
              </a:rPr>
              <a:t>. О или 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Слев…, издавн…, справ…, досыт…, сначал…, занов…, испуганн…, исправн…, доверчив…, влев…</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333399"/>
                </a:solidFill>
                <a:uFillTx/>
                <a:latin typeface="Arial"/>
              </a:rPr>
              <a:t>Слитно или раздельн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68360" y="1484280"/>
            <a:ext cx="8229600" cy="4525920"/>
          </a:xfrm>
          <a:prstGeom prst="rect">
            <a:avLst/>
          </a:prstGeom>
          <a:noFill/>
          <a:ln w="0">
            <a:noFill/>
          </a:ln>
        </p:spPr>
        <p:txBody>
          <a:bodyPr anchor="t">
            <a:normAutofit fontScale="92000"/>
          </a:bodyPr>
          <a:p>
            <a:pPr marL="315360" indent="-315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делать (не)умело; пришить (не)крепко; выполнить (не)брежно; взлететь (не)высоко; сделать (не)опрятно; взглянуть (не)доверчиво, а с подозрением; говорить ничуть (не)весело; совсем (не)громко; далеко (не)ласково; произнести (не)громко, а тих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u="sng">
                <a:solidFill>
                  <a:srgbClr val="333399"/>
                </a:solidFill>
                <a:uFillTx/>
                <a:latin typeface="Arial"/>
              </a:rPr>
              <a:t>Н или НН?</a:t>
            </a:r>
            <a:endParaRPr b="0" lang="en-US" sz="4400" spc="-1" strike="noStrike">
              <a:solidFill>
                <a:srgbClr val="000000"/>
              </a:solidFill>
              <a:latin typeface="Arial"/>
            </a:endParaRPr>
          </a:p>
        </p:txBody>
      </p:sp>
      <p:sp>
        <p:nvSpPr>
          <p:cNvPr id="59" name="PlaceHolder 2"/>
          <p:cNvSpPr>
            <a:spLocks noGrp="1"/>
          </p:cNvSpPr>
          <p:nvPr>
            <p:ph/>
          </p:nvPr>
        </p:nvSpPr>
        <p:spPr>
          <a:xfrm>
            <a:off x="914400" y="1268280"/>
            <a:ext cx="8229600" cy="4525920"/>
          </a:xfrm>
          <a:prstGeom prst="rect">
            <a:avLst/>
          </a:prstGeom>
          <a:noFill/>
          <a:ln w="0">
            <a:noFill/>
          </a:ln>
        </p:spPr>
        <p:txBody>
          <a:bodyPr anchor="t">
            <a:normAutofit fontScale="94000"/>
          </a:bodyPr>
          <a:p>
            <a:pPr marL="322200" indent="-3222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ботали напряжё…о, внимание напряже…о, говорил взволнова…о, море взволнова…о, шел медле…о, походка медле…а, остановился неожида…о, встреча неожида…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1:25:04Z</dcterms:created>
  <dc:creator>Админ</dc:creator>
  <dc:description/>
  <dc:language>en-US</dc:language>
  <cp:lastModifiedBy>BLACKGIRL</cp:lastModifiedBy>
  <dcterms:modified xsi:type="dcterms:W3CDTF">2010-01-29T23:08:12Z</dcterms:modified>
  <cp:revision>3</cp:revision>
  <dc:subject/>
  <dc:title>Слайд 1</dc:title>
</cp:coreProperties>
</file>